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E74-091C-42FC-A73C-B638B971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15A-5FB0-4D85-9673-E2F7A646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2DA-BB84-49D9-8B44-2942EC2B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2A3-99C3-4675-A7D6-90005138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5C5-464A-4F58-A313-5F0B2DC7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338-3830-4334-BCBF-67F38C36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1D8-FB87-4DB6-AC33-63AC1056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860-2103-4E17-BE73-26B9B912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9AA-A65A-4570-9598-9222D822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92E-7132-4FBA-967B-52817FEA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E31-9A04-4FA4-8F9E-FE73C9F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1A9-AF67-410A-BE2B-46DEF72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F1D3-CA41-436F-B106-1FECA2E55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Lan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Always Tougher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 Alexander Cox &amp; Anthony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: Problems and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ld climate: causes rivers and waterways to free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of Fire: ring of Volcanoes on the Kamchatatka Penins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frost: a frost that stays Prenatally during the winter months preventing architecture and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Br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architecture (pil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Of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orms: Mountains, Plateaus &amp; Pl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l Mountains: The mountain rage that is the border of Asia &amp;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asus Mountains: The mountain rage separating Russia and South Ea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European Pl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6:42Z</dcterms:created>
  <dc:creator> </dc:creator>
  <dc:description/>
  <dc:language>en-US</dc:language>
  <cp:lastModifiedBy> </cp:lastModifiedBy>
  <dcterms:modified xsi:type="dcterms:W3CDTF">2010-12-15T14:11:14Z</dcterms:modified>
  <cp:revision>3</cp:revision>
  <dc:subject/>
  <dc:title>The Land is Always Tougher In Russia</dc:title>
</cp:coreProperties>
</file>